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6D58-6983-4E37-A7AB-D7311A71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4399-6AE0-44A6-9C89-2DF2ECBF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3A59-20A2-4009-BDA7-0630A99A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CE35-C261-42BD-A8EE-A94CAC26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A6F7-7920-46E3-9C40-820EB1E2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3F4B-A13E-4733-A087-61545FE8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F8C7-51CC-4F9D-992B-C92C881E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7E6F-D999-40E2-B8CF-921FCC66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FD04-9225-487A-B642-55A03C3B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BEB5-B023-4166-9ADA-0634DD29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AE0F-4C85-4C87-B11C-90CEE48B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2A61-4A07-4F55-BF6B-22B80DC7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741B-65E3-47AC-8F4A-D58E3BD0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1C0C-D511-4EDE-8623-E4CE7A1A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E42C-460E-4DFB-A2FC-A2D726E9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9C78-A8D2-4B9D-B591-3E9F1AF0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F919-0AF5-4215-AD62-34DA2717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2B75-B5FB-495B-95BB-C8C23C17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D875-ED13-4267-96FE-1AB653AF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6D4-2D7D-47E6-A369-F607FE9E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0CE2-8163-4966-99D8-15FE3E6C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34F-0D8F-461E-8C0B-BE32B9C6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37DB-D658-486D-B6F0-F98B828F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273A-16B9-4241-BEDF-C5E91360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0214-B9C9-4E25-9AAF-9941D11585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D031-D67D-4F0E-A53D-3ABA6C3AE7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minders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, essay needs to be in P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choice is in PENC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alcula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write in essay format. Complete sentences. If you make a diagram, refer to it in wri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rokaryote, Plant Eukaryote, Animal Eukaryot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BACTERIA ARE PROKARYOTES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karyote= no nucleus, no organelles, cell wall, ribos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 Eukaryote= square, has nucleus + organelles, ribosomes, cell wall, chloroplasts, cell plate during mi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 Eukaryote= circle, has nucleus + organelles, ribosomes, NO cell wall, lysosomes, centrioles, cleaveage furrow during mi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Junction, Junction…what’s your function? </a:t>
            </a:r>
            <a:r>
              <a:rPr b="0" lang="en-US" sz="4000" spc="-1" strike="noStrike">
                <a:solidFill>
                  <a:srgbClr val="b7e7ff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omosome= holds adjacent cells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p Junction= in animal cells, allows communication between cytoplasm of adjacent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ght Junction= tight connection between membranes of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smodesmata= only in plant cells, it’s basically a gap junction in plant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If you have these to pick from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NAD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NADP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FADH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8201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 dependent reactions make ATP, NADPH, and O2. They occur in the thylako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680 (photosystem II, makes ATP + NADPH) and P700 (photosystem I, makes ATP only…if this is the only one that goes it’s called CYCL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 independent reaction (Calvin cycle) uses the ATP and NADPH + CO2 to make gluc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rubisco (RuBP) fixes CO2 in the Calvin…unless it’s a C4 plant. Then it’s P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otorespir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BAD thing, it’s the fact that rubisco fixes O2 and CO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lants Cont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 Hormo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Aux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Abscisic Acid (A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Giberell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Ethyl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lecular Genetic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 vs. Transcription vs. Translation…Think about where these are involv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 polymer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NA polymer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 lig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kazaki frag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ion Enzy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erse Transcript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al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that it’s from least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st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Kingd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archa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eu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rot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fung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lanta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anim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“Favorite” Phylu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 1-2 questions related to this out of the 100 multiple choice questions. These are in your AP Review Packe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ifera (spong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nidaria (jellyfish, sea anemones, cor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lusca (snails, octupus, squ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elida (segmented wor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hropoda (insects, spiders, crustacea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hniodermata (star fish, sea urchi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rdata (animals that have notochord {becomes brain + spinal cord}, gill slits, muscular ta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 word about symmetry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metry is important in the sense that it has to do with lower/higher organisms (milesto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AL symmetry- circular, disk shaped.  Simple.  Echnioderms + Porif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ATERAL symmetry- if organism cut in half, they have symmetric halves.  More complex.  Compartmentaliz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FROM BIO I…Ecology (in eco packet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levels of organiz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sphere- (think BIG)- this is the entire part of the earth where living things l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system- interaction of living/nonliving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- Group of populations interacting in same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= group of individuals of same species interbr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107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Chemistry of Lif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in atoms of lif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hydrogen, carbon, nitrogen, and 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What’s so great about carb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What’s so great about wa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Three Forgotten Biomes (Ecology cont.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dra (northernmost reg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ra (plants) = not much, some trees, gr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una (animals) = arctic foxes, snowy owls, reind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Taiga (northern fores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ra=conif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una= caribou, wolves, moose, rabb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e Deciduous For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ra= Trees that drop their leaves in wi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una= deer, wolv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Eco…the most IMPORTANT (and from the packet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r strategists (think they breed like cRazy)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live in uncertain environments, breed fast, don’t care for young, short life span, small (example: bacteria, wee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k strategists- live in stable environments, long life span, care for young (example: elephant, huma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arrying Capacity= the max number of individuals of a species that a habitat ca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productive Barriers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Leading to Speciat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zygotic Barr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zygotic Barr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itat Iso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oral Iso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havioral Iso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Iso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metic Iso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d Hybrid v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d Hybrid fert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brid breakd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43434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31240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312408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4495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44956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676520"/>
            <a:ext cx="533520" cy="2666880"/>
          </a:xfrm>
          <a:custGeom>
            <a:avLst/>
            <a:gdLst>
              <a:gd name="textAreaLeft" fmla="*/ 156600 w 533520"/>
              <a:gd name="textAreaRight" fmla="*/ 533880 w 533520"/>
              <a:gd name="textAreaTop" fmla="*/ 110880 h 2666880"/>
              <a:gd name="textAreaBottom" fmla="*/ 25560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4572000"/>
            <a:ext cx="457200" cy="1447920"/>
          </a:xfrm>
          <a:custGeom>
            <a:avLst/>
            <a:gdLst>
              <a:gd name="textAreaLeft" fmla="*/ 134280 w 457200"/>
              <a:gd name="textAreaRight" fmla="*/ 457560 w 457200"/>
              <a:gd name="textAreaTop" fmla="*/ 60120 h 1447920"/>
              <a:gd name="textAreaBottom" fmla="*/ 138780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4% of a sheep population has black wool, 96% white.  If black wool is recessive what % of the population is heterozygous?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4% of a sheep population has black wool, 96% white.  If black wool is recessive what % of the population is heterozygous?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% of the population is homozygous for white woo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lant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istems-generate cells throughout the plants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ical- extend roots and shoots (Primary Grow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ral- add girth (secondary grow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 t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ylem-water and min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loem- carry sug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loem is made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ieve tube cells and companion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ylem is made of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heids- long th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ssel elements- wider, sho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h are dead at functional mat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ment of water from roots to leaves occurs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lk-Flow- the movement of fluid driven by a pressure difference at opposite ends of a condu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ressure difference is generated at the leaf end by transpirational pull ( lower pressure) at the leaf 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 pulled tight against the cell walls in the air spaces of the leaf cause the negative pressure which draws water up xyl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per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Prokary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 of a chromosome where a set of genes are transcribed at one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all of the enzymes needed for a pathway to be present at o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cible are usually off but can be turned on.  Like the lac oper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01680" y="304920"/>
            <a:ext cx="8540640" cy="57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Finally…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full confidence in your ability to do well.  You have worked hard this year, and you are well prepa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plenty of sleep the night before the exam and feel good in your accomplishment of finishing out this year!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209680" y="4114800"/>
            <a:ext cx="4048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re Chemistry of Lif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on a scale from 1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is it acidic?  Basic (alkaline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al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no= NH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xyl= CO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yl= CO (aldehyde or ketone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xyl= 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ajor Organic Molecu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Carbohyd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onosaccharide= glucose, fructo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disaccharide= sucrose…held by glycosidic bon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olysaccharides= storage like starch or structure like cellulo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carbs are a great source of energ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ajor Organic Molecu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Proteins (amino acids linked together by PEPTIDE bon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- just the co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- influenced by H+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tiary- influenced by AA R-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ternary- influenced by subunits of proteins binding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ajor Organic Molecu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p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st of carbon, hydrogen, and oxygen but not the 1:2:1 ratio of carb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ve glycerol + fatty aci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H+= satur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 fats, oils, phospholipids, and STERO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ajor Organic Molecu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ic Ac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ncludes DNA, RNA, and actually AT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at DNA is double stranded and more stable than R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ATP is an energy molecule involved in energy requiring/making steps. It’s energy can easily be transferred to do cellular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6:20:32Z</dcterms:created>
  <dc:creator>Brianna</dc:creator>
  <dc:description/>
  <dc:language>en-US</dc:language>
  <cp:lastModifiedBy>moranc</cp:lastModifiedBy>
  <dcterms:modified xsi:type="dcterms:W3CDTF">2010-05-07T11:42:24Z</dcterms:modified>
  <cp:revision>11</cp:revision>
  <dc:subject/>
  <dc:title>AP BIOLOGY REVIEW</dc:title>
</cp:coreProperties>
</file>